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D71-8E6E-4B91-B7D8-5C535D48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61B-602B-4E2F-8077-6CC818A0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FE7-1B36-4F25-9AE0-9CCF79BA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743-46C1-4B2D-8940-08167A6B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872-1F4E-446D-B8EC-4AF25394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BF7-C9C2-4AEB-8C8D-EC98590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D33-3113-4391-BF52-48FAD59A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332-13AE-48CB-AA95-AF00A69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2BE-9EEA-4000-9AC8-7609CD2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D71-F0D2-4F59-A422-FE24F6E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4A5-4946-49B8-A388-618DDD98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A14-EB2B-4373-93DF-86F2DF4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2F4B-8638-474F-82DC-C022C43D0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354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úmrak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rný pad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úmrak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rný pad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bl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sa tmavá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 vt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t spev 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ne v dia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elebí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elebí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elebí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 kvietky zvl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né ros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rcovi vzdá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ko v modlitbe tich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i hla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y skl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i hla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y skl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i hla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y skl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s šumí, akoby vzýval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o meno tak vzneš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potok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lnkotom vzd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ánovi nadše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ánovi nadše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ánovi nadšen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 všetko velebí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ovek by rob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al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á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k nemu sa bl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sp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piesne chv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sp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piesne chv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sp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piesne chv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11T15:59:03Z</dcterms:modified>
  <cp:revision>22</cp:revision>
  <dc:subject/>
  <dc:title>Je veľký náš Pán, on slávy je Kráľ Nech do všetkých strán  spev vrúcnych znie chvál.</dc:title>
</cp:coreProperties>
</file>